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1054-350D-4FA3-BA12-533EEBBC6B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6409-A00F-4C13-A730-393D49922F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AD6-D7B5-4AA0-9A57-1234DC6DCF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2AAD-8ECA-46BD-9143-B651F8036D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E8C-F77C-48F4-9A6B-FC8533F118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1DD1-AC19-45C5-B6CB-AB59822EAF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7121-A9AC-48C2-9097-5ED0A05685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A5F7-170E-478D-A582-14F3A1E957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7DE8-568C-484A-AAB5-CFAF2A2DB9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ABCE-FEE0-4B0B-859E-587EEB8E8E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615-DE92-4CC3-B51D-3848252C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3D0-6BF8-4C79-906A-2F221AA3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33E-74BF-4EF4-99ED-92953081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1EB-86E0-4E9D-BF8F-EE325D33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F4CA-8542-4B33-8D5B-70BE77BF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511-70AB-464E-B708-071129F3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9009-2456-47AB-89AF-C3F8CE37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C720-6B2A-4E25-92BF-9BA98B88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6C1B-F3B8-424E-9E12-6EC0A97B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3EA8-4E93-46B2-B757-B578C055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F9B-EEEB-4CF4-BCA2-18F28C5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184-97DE-4646-83DE-16B0E961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15FD-D950-46EF-9432-637DC76C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4C5B-1B83-46AC-BC42-AC5BD2A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270-3E69-4D7F-A41E-CADF40A6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F9BF-C579-409D-BE27-54DAE813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B941-51C2-4462-AFBD-9BE58ABD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8D92-C8E6-4E95-A75C-1B3F5833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7B68-D784-4207-B57C-D1DD2842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29E6-B0AF-4E3C-9F0E-028F539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3C16-5920-4C5C-90FE-B160160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4071-3BFD-4BD5-8744-73184C98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485-829D-4ABA-8B85-5D8CE6D8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759D-4495-4F64-9A37-B1F6229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2105-1705-4292-862D-D22CBE4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C933-BEBF-433D-A5A9-8C92481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EF8D-2D47-46EA-B9FD-11C9F47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04D9-D745-47F9-AA04-E60A2D6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2E2C-723E-461A-941F-730A311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FBA3-B663-4331-95A6-E94639F5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1F08-2D4E-4B7F-AA21-C4E5C595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754B-F6CE-49AE-B831-A5CECBC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32D1-19AC-437B-91E8-5E40B8E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580-E63C-4A96-BC86-6E03F4BA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C5AC-0049-4F53-8635-0C119AC6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CE80-9FF4-45B3-BC32-5C5FEFE8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0CD2-CFDC-4CC6-81D2-5D59D36D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7A47-58EC-4F46-8C52-AFBE89C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8455-6B95-47CC-980D-C5926D2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714A-D59B-4525-A9BF-7EB394D0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3691-BB40-495F-8763-FD9F0D47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600B-6C97-4070-949E-F88B0543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9E05-10AF-42F8-B59F-E4F3B9E0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C114E-3269-43E1-8F06-86C11BC4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A91-0B4F-428E-AFCE-3C9B45B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837F-698D-42A0-BE5C-8624DB81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A65E-A003-4FEA-B54F-65C8A2C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36EE-E9A0-4023-9A27-992D489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A848-66C9-4DD3-88E1-4F50857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4115-BEC2-4FA6-9C25-793080BA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BE12-42B8-4123-A12D-F7BD1E8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454D-6996-4DD1-B207-D029207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CD9A7-3667-4F8B-BDAD-DD05A76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9A73-953C-4DD4-8450-CEF9B13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8DC6-E952-4516-8610-5A0F4F48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17E-1E5E-4A6F-BEFD-72FB539A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3FFE-5D5A-43B2-8F06-260295F9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FC21-D7EA-4E6D-B739-CB7208D8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49A2-59F1-4E04-88F1-BE4A0BA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F520-93EB-4F70-9F0B-531ED6DA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A8522-6302-4F2E-A522-20152658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CFB7-44D0-4590-B1AC-166C6F57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4132-EAE6-4B5C-89EB-2DF5653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6528-20BF-4F3F-A5B5-D1D5E0B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0C02-073E-47FE-B49D-B78C965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46F3-BAD0-4FD3-BB41-4934218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B2B-9202-42A5-93B8-27A6A11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F5E7-0B7B-454E-8D7D-B22E1AE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69DF-006C-4AD6-AAA0-506FF4A8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D807-04BE-4044-9378-A684A525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87A-C013-47FF-A8DA-0655897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422-836D-4C39-9C20-B5E7376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0864-CAD7-4931-9E89-F603F226C708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876-C0FB-43E0-8C41-242C9526840F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549D-FF88-4CD7-A781-9E577C987951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BE69-A2BD-4997-8D74-0302CBB3421C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C725-7395-425A-9B92-C690754ECDB2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DE76-37E1-4FEA-8F42-39B21F1FE55F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81160" y="182520"/>
            <a:ext cx="8021520" cy="3676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080" y="4571640"/>
            <a:ext cx="8139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чакова Т.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Сыктывкар, 2009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ии возникновения вселенной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9" descr="00010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14200" y="2428920"/>
            <a:ext cx="64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еория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ожественная теория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виды галактик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Содержимое 9" descr="galaxysample_block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10"/>
          <p:cNvSpPr/>
          <p:nvPr/>
        </p:nvSpPr>
        <p:spPr>
          <a:xfrm>
            <a:off x="0" y="20001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ир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липт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прави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9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9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8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9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8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ете ли вы как называется наша галактика и к какому типу она относится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а галактика – Млечный пу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лечный путь – спиральная 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Users\User\Desktop\Галактики   (инф)\картинки галактик\лшн.jpg"/>
          <p:cNvPicPr/>
          <p:nvPr/>
        </p:nvPicPr>
        <p:blipFill>
          <a:blip r:embed="rId1"/>
          <a:stretch/>
        </p:blipFill>
        <p:spPr>
          <a:xfrm>
            <a:off x="3857760" y="150012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0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ие виды звёзд вы знаете?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Нормальные звёз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вёзды гига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вёзды карл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Белый кар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Красный карли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Коричневый кар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Чёрный кар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0" lang="ru-RU" sz="6500" spc="-1" strike="noStrike">
                <a:solidFill>
                  <a:srgbClr val="ff6600"/>
                </a:solidFill>
                <a:latin typeface="Franklin Gothic Book"/>
              </a:rPr>
              <a:t>Какие созвездия вы знаете?</a:t>
            </a:r>
            <a:endParaRPr b="0" lang="en-US" sz="6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8400" y="2428560"/>
            <a:ext cx="7467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Большая и малая медвед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Волосы Верон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Козер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Телец и т. 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8186760" cy="63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Назовите планеты солнечной системы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320" y="2142720"/>
            <a:ext cx="7900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еркур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ене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ем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р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Юпите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атур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ра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ту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луто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571760" y="3286080"/>
          <a:ext cx="4476600" cy="201600"/>
        </p:xfrm>
        <a:graphic>
          <a:graphicData uri="http://schemas.openxmlformats.org/drawingml/2006/table">
            <a:tbl>
              <a:tblPr/>
              <a:tblGrid>
                <a:gridCol w="447660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23880" y="3327480"/>
          <a:ext cx="6096240" cy="20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03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2" descr="Размеры планет Солнечной системы"/>
          <p:cNvPicPr/>
          <p:nvPr/>
        </p:nvPicPr>
        <p:blipFill>
          <a:blip r:embed="rId1"/>
          <a:stretch/>
        </p:blipFill>
        <p:spPr>
          <a:xfrm>
            <a:off x="2643120" y="1785960"/>
            <a:ext cx="578664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кие ещё космические тела вы знаете?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2960" y="2642760"/>
            <a:ext cx="804384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ерои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е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и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37:33Z</dcterms:created>
  <dc:creator>Горчакова</dc:creator>
  <dc:description/>
  <dc:language>en-US</dc:language>
  <cp:lastModifiedBy>Горчакова </cp:lastModifiedBy>
  <dcterms:modified xsi:type="dcterms:W3CDTF">2009-11-06T15:43:02Z</dcterms:modified>
  <cp:revision>30</cp:revision>
  <dc:subject/>
  <dc:title>Вселенная – бесконечна ли она</dc:title>
</cp:coreProperties>
</file>